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ACC7-FF39-4B95-B682-F37CC4C5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9C7-32E0-47C8-B871-A9EE6D83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793-AFC1-472C-BD3E-9E23B561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A87-DFF8-4170-89E6-723BD915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CEA-FA79-4182-8FDB-EA5B9D03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8315-CBDE-4EDA-9EBF-E57A5DFA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394-CAEC-44F5-AA66-398B122A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B72-074A-420A-9488-9FBAC710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48A-04E5-4562-806F-A17D675A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F3DC-5DDF-48E7-A64E-9C84E361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DF9-E99E-43C0-A0FC-5666F116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3E55-7C5F-413B-BAED-9ED0E74D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26E7-EC3C-4E91-83DB-3E5E3A020C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5759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4932360" y="1844640"/>
            <a:ext cx="392436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ёт ме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озит н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воре апрел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тепло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9" descr="vesnakartinki3"/>
          <p:cNvPicPr/>
          <p:nvPr/>
        </p:nvPicPr>
        <p:blipFill>
          <a:blip r:embed="rId1"/>
          <a:stretch/>
        </p:blipFill>
        <p:spPr>
          <a:xfrm>
            <a:off x="1332000" y="1413000"/>
            <a:ext cx="2917800" cy="4400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роверя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бегаю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выполню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при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и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2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2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2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2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3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Собери пословицы.</a:t>
            </a:r>
            <a:br>
              <a:rPr sz="4000"/>
            </a:b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Подчеркни орфограм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003640" y="2276640"/>
            <a:ext cx="3961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 здоров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 брос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о (не) гово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39640" y="2276640"/>
            <a:ext cx="40435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ие друзья в б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го (не) зн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нтяю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роверя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рош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   друз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 в  б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бр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го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знаеш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того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г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тяю   всегда 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Выбери себе задание по сила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уровень. Запиши, исправляя ошиб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Кашу маслом испортишь.  Лож человека красит   Здарове за денги купи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уровень. Придумай и запиши три предложения о том, что ты не любишь де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одведём итог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807588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новые знания получили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– как называется эта часть реч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ую роль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Е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ет в реч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адо помнить о её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писании с глагол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3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4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4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4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2_html_m7eb46e96 (1)"/>
          <p:cNvPicPr/>
          <p:nvPr/>
        </p:nvPicPr>
        <p:blipFill>
          <a:blip r:embed="rId1"/>
          <a:stretch/>
        </p:blipFill>
        <p:spPr>
          <a:xfrm>
            <a:off x="1403280" y="981000"/>
            <a:ext cx="6618240" cy="4988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Тема   урока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5759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4572000" y="1628640"/>
            <a:ext cx="4105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 метёт ме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 морозит н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воре апрел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тепло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vesnakartinki3"/>
          <p:cNvPicPr/>
          <p:nvPr/>
        </p:nvPicPr>
        <p:blipFill>
          <a:blip r:embed="rId1"/>
          <a:stretch/>
        </p:blipFill>
        <p:spPr>
          <a:xfrm>
            <a:off x="1258920" y="1557360"/>
            <a:ext cx="2917800" cy="4400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928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авопис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 глагол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img1"/>
          <p:cNvPicPr/>
          <p:nvPr/>
        </p:nvPicPr>
        <p:blipFill>
          <a:blip r:embed="rId1"/>
          <a:stretch/>
        </p:blipFill>
        <p:spPr>
          <a:xfrm>
            <a:off x="324000" y="1484280"/>
            <a:ext cx="4537080" cy="3395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5759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859280" y="1916280"/>
            <a:ext cx="3745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Н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ёт ме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Н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розит н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воре апрел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тепло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vesnakartinki3"/>
          <p:cNvPicPr/>
          <p:nvPr/>
        </p:nvPicPr>
        <p:blipFill>
          <a:blip r:embed="rId1"/>
          <a:stretch/>
        </p:blipFill>
        <p:spPr>
          <a:xfrm>
            <a:off x="1042920" y="1341360"/>
            <a:ext cx="3056040" cy="460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Выпиши глаголы,</a:t>
            </a:r>
            <a:br>
              <a:rPr sz="4000"/>
            </a:b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 раскрывая скоб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гостей  сегодня жд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рошо себя ведё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лим, (н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б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упости (н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уроках (н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ва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все повторя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images"/>
          <p:cNvPicPr/>
          <p:nvPr/>
        </p:nvPicPr>
        <p:blipFill>
          <a:blip r:embed="rId1"/>
          <a:stretch/>
        </p:blipFill>
        <p:spPr>
          <a:xfrm>
            <a:off x="539640" y="2060640"/>
            <a:ext cx="3853080" cy="2663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1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1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Всегда ли 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 с глаголами пишется раздельно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906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вает всё же, что гла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сем без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ож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да, куда бы ты ни шёл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ним вместе то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000" y="1915920"/>
            <a:ext cx="39704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мни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оров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д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1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1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Исследователь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340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08"/>
          <p:cNvPicPr/>
          <p:nvPr/>
        </p:nvPicPr>
        <p:blipFill>
          <a:blip r:embed="rId1"/>
          <a:stretch/>
        </p:blipFill>
        <p:spPr>
          <a:xfrm>
            <a:off x="755640" y="1413000"/>
            <a:ext cx="6827760" cy="5121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404640"/>
            <a:ext cx="65530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ети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ненавидят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укол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негодуют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огда им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нездоровится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аспределите слова в два столб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3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бегаю,     (не)выполню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годую,    (не)пришёл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(не)навидел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здоровится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2T17:58:51Z</dcterms:created>
  <dc:creator>Aleks</dc:creator>
  <dc:description/>
  <dc:language>en-US</dc:language>
  <cp:lastModifiedBy>Начальная</cp:lastModifiedBy>
  <dcterms:modified xsi:type="dcterms:W3CDTF">2020-04-18T07:41:35Z</dcterms:modified>
  <cp:revision>24</cp:revision>
  <dc:subject/>
  <dc:title>Тема :   ?</dc:title>
</cp:coreProperties>
</file>